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gif" ContentType="image/gi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Franklin Gothic Book"/>
              </a:rPr>
              <a:t>Click to move the slide</a:t>
            </a: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302A-7716-44F0-8339-4F4349851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80000"/>
              </a:lnSpc>
              <a:buClr>
                <a:srgbClr val="0000f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e1c11"/>
                </a:solidFill>
                <a:latin typeface="Calibri"/>
              </a:rPr>
              <a:t>The sentences tell me it is something that can be eaten.  I know that it is a breakfast food because Ryan said it was morning.  I also know that it goes in a bowl.  What do you think it is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0000f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e1c11"/>
                </a:solidFill>
                <a:latin typeface="Calibri"/>
              </a:rPr>
              <a:t>The most logical guess would be a type of cereal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0000f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e1c11"/>
                </a:solidFill>
                <a:latin typeface="Calibri"/>
              </a:rPr>
              <a:t>The sentences tell me that Ryan was going to school and he almost missed his tramzam.  What do you think it is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0000f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e1c11"/>
                </a:solidFill>
                <a:latin typeface="Calibri"/>
              </a:rPr>
              <a:t>The most logical guess would be a school bu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0000f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e1c11"/>
                </a:solidFill>
                <a:latin typeface="Calibri"/>
              </a:rPr>
              <a:t>The sentences tell me that it is something Ryan needed at school.  I also know that it is ok if he brings it tomorrow. What do you think it is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0000f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e1c11"/>
                </a:solidFill>
                <a:latin typeface="Calibri"/>
              </a:rPr>
              <a:t>The most logical guess would be Ryan’s homework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0000f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e1c11"/>
                </a:solidFill>
                <a:latin typeface="Calibri"/>
              </a:rPr>
              <a:t>The sentences tell me that a person can act this way and that Ms. Jutzi is being kind and allowing Ryan to bring his homework the next day. What do you think it is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0000f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e1c11"/>
                </a:solidFill>
                <a:latin typeface="Calibri"/>
              </a:rPr>
              <a:t>The most logical guess would be friendly or understanding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117E-D976-4EEE-BA6B-D0C72FA7C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90000"/>
              </a:lnSpc>
              <a:buClr>
                <a:srgbClr val="0000f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1215"/>
                </a:solidFill>
                <a:latin typeface="Calibri"/>
              </a:rPr>
              <a:t>The sentences tell me it is a game Ryan and his friends play against each other and that points can be scored.  What do you think it i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f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1215"/>
                </a:solidFill>
                <a:latin typeface="Calibri"/>
              </a:rPr>
              <a:t>The most logical guess would be a sport such as basketball or socc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f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1215"/>
                </a:solidFill>
                <a:latin typeface="Calibri"/>
              </a:rPr>
              <a:t>The sentences tell me that Ryan’s team scored 7 points while the other team scored less points.  What do you think it i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f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1215"/>
                </a:solidFill>
                <a:latin typeface="Calibri"/>
              </a:rPr>
              <a:t>The most logical guess would be that it means winn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4EC5-E35F-4B71-98B1-E34E9CEE9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buClr>
                <a:srgbClr val="0000f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1215"/>
                </a:solidFill>
                <a:latin typeface="Calibri"/>
              </a:rPr>
              <a:t>The sentences tell me that Ryan’s dad said he could go there and when he gets there they will swim and play in the sand.  Ryan also mentions not wanting a sunburn.  What do you think it i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f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1215"/>
                </a:solidFill>
                <a:latin typeface="Calibri"/>
              </a:rPr>
              <a:t>The most logical guess would be a lake or a bea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6B11-B71D-4BCE-92C2-414BA996C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A42B-45CC-407A-A538-D10A72B5D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73EB-AF55-4C0A-A713-9E476C0F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407E-710D-4242-8453-C9C0B4746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E5F8-51BD-44CC-AC84-1C6621887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F088-5412-477C-BE07-9630C6DE7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4D59-BE47-4053-8D5E-C77DE225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BABF-28EF-447D-A133-8BDB9320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4E3A-32C8-4FD8-8E02-C7B70532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276B-2021-49C1-8E01-C5253C93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B8E4-BF2A-4A53-84B7-69496686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A64D-FB98-4DE1-AEE4-D9F53DFA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2D58-72DB-4D85-9D00-427AB289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6F85-E49A-41F8-9976-17A62FAD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151B-B473-4018-80CA-ED7FB82A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0EA4-105F-41D7-9830-B80954F8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601B-B164-4D6A-BBA0-3E3A39E6D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041C-E1C1-43D8-9488-76651B3FF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65787E-46E9-4129-BD64-DD31D7738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33C8AC-7BA4-4853-8D60-F803866F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054EE4-0E27-4348-818F-5658872D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E708DE-48B2-4898-9C35-962AC497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879ABB-EBAD-4B8C-9911-AC317177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58D4-5FC1-4932-822F-E155595A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509CBB-FC19-4F82-AB6B-0A4DD3DB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E41F82-07B2-477B-8CB5-F8F7B7F0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DC2062-82F1-4327-9373-E52296C4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D7BCBE-1ED3-4B88-8243-D10E7C29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7EF1F9-5EAF-4B23-A59D-11CEB407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6CE156-48BD-41D6-94E7-D13F38785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65DBC2-96CC-4499-AFB6-042D7B7E0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EC60D-57C3-4B85-BB29-1303171C0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BF461-B38C-42BA-967E-05492D8D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B4F7F-294A-47AB-8805-6E29B3B8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98BD-25D5-4410-8763-DF19838C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95961-DFC9-43A4-81D0-484C2517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4F67E-06AD-47CD-96CC-D6C0074B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CAD87-8B78-424D-979C-5DF8834E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1DC0B-20B2-4217-B4F7-90C8C026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DFD41-35E8-4A3C-B678-C17D8D79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9C622-0F20-47A0-996E-42089BE2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2F091-BDB7-4501-917C-BD0C39E4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62067-194A-44BC-9007-C577D2A63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0CE8C-7F50-45D8-83F5-2B039D010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EBF08F-2570-4E63-BE77-6971D19DE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0E14-8D87-4EF8-8299-A95BC3D6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06B38C-CB8E-409D-8CE5-BBD97E34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F7A590-0FB0-4037-A296-A9070B9F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4B069C-6DB5-4D39-AE7C-E48E1BFD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040C57-EDE4-46B8-9A9B-385919E8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A90E07-8DE3-495D-8759-666D4AB0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991174-2352-478D-8D05-A9C8B823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DF4EDE-3FC6-4861-9E62-13335FA4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78A756-A028-4AEE-9E11-74950BFB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242475-EAD1-45D0-BFD2-A74506B1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368D4F-C091-4B6E-AC55-114620139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F8B2-7A5E-4CCF-BAD7-A78D6F9A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264FF7-0F79-4F46-9EE5-5D379C2A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302B41-D846-489B-A917-A8D79AB56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0774B8-A993-4518-9A0E-0025F4EB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25FB84-4539-4DD8-A398-F7600189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FE0087-B1AA-4EA8-A2CD-297D5104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A73DA9-A977-42D4-B1FB-D8BB8D0D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36CE1E-72C2-4D60-BBC5-E9509BC1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BE7004-5CCD-4365-8BF0-BB7C5A7D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97B945-6F19-4B6B-8124-875AD21F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D30BB5-18AE-45E4-9043-8E0E6E49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11CD-B831-4626-AB8D-4746C845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98C0D6-1EB4-4506-B527-FE26D2DC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A54382-2EB4-4DD3-A8E3-DA5876C8C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210648-4D11-4C45-936B-E377F045C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9C135D-CCE5-4451-A2B6-4DA3BD0A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D0B4C7-1476-433E-AC65-9CC65F21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1FF84F-E337-4D78-8C1C-A9CE0B4C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1194C6-BF23-4115-9B00-ED584FA6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99CB38-DB2B-4D96-806B-EA32858A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B8FF38-3786-4C4D-9D15-16C02617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1495BE-6D49-4FC2-9F5B-D3551D06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110B-4FA2-404E-A040-988D9A79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5FE308-4843-453C-A3B7-FF1FB7DD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160EF3-542E-403A-938D-73270098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E4E36A-F23B-4DE4-91AE-284C87F5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16CE1D-01FD-4AC2-BC68-C526FEB8B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5E03F4-85B4-4BA9-8DC6-9B8153494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9EBC-0BEB-4646-A3B1-30F10A9E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8493-0A8F-4044-BDD5-28BA75567E2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8DC0-6877-45F3-A447-233CAEB2D04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49BC-B76D-417B-8511-ED9E517B665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191F-56BF-4B83-A5EC-F8141774D03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5791-B7B3-4907-9294-2E266DFE85B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B45A-BD92-4613-9C1C-D6B67E9E810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E164-2B55-4DF2-B93B-9704442F6B0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99ff"/>
                </a:solidFill>
                <a:latin typeface="Georgia"/>
              </a:rPr>
              <a:t>CONTEXT CLUES:  </a:t>
            </a:r>
            <a:br>
              <a:rPr sz="4900"/>
            </a:br>
            <a:r>
              <a:rPr b="1" lang="en-US" sz="4900" spc="-1" strike="noStrike">
                <a:solidFill>
                  <a:srgbClr val="3399ff"/>
                </a:solidFill>
                <a:latin typeface="Georgia"/>
              </a:rPr>
              <a:t>YOU BE THE DETECTIVE </a:t>
            </a:r>
            <a:br>
              <a:rPr sz="4900"/>
            </a:br>
            <a:br>
              <a:rPr sz="4900"/>
            </a:br>
            <a:br>
              <a:rPr sz="5900"/>
            </a:br>
            <a:endParaRPr b="0" lang="en-US" sz="4900" spc="-1" strike="noStrike">
              <a:solidFill>
                <a:srgbClr val="4e5b6f"/>
              </a:solidFill>
              <a:latin typeface="Franklin Gothic Book"/>
            </a:endParaRPr>
          </a:p>
        </p:txBody>
      </p:sp>
      <p:pic>
        <p:nvPicPr>
          <p:cNvPr id="359" name="Picture 5" descr="j0282788"/>
          <p:cNvPicPr/>
          <p:nvPr/>
        </p:nvPicPr>
        <p:blipFill>
          <a:blip r:embed="rId1"/>
          <a:stretch/>
        </p:blipFill>
        <p:spPr>
          <a:xfrm rot="20541000">
            <a:off x="3395520" y="2072880"/>
            <a:ext cx="3497400" cy="333864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4"/>
          <p:cNvSpPr/>
          <p:nvPr/>
        </p:nvSpPr>
        <p:spPr>
          <a:xfrm>
            <a:off x="7162920" y="320040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 IT IS YOUR TURN TO BE A DETECTIVE AND  FOLLOW THE CLUES!</a:t>
            </a:r>
            <a:br>
              <a:rPr sz="2700"/>
            </a:br>
            <a:endParaRPr b="0" lang="en-US" sz="36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380880" y="510516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5b6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9" descr="j0349657"/>
          <p:cNvPicPr/>
          <p:nvPr/>
        </p:nvPicPr>
        <p:blipFill>
          <a:blip r:embed="rId1"/>
          <a:stretch/>
        </p:blipFill>
        <p:spPr>
          <a:xfrm rot="3834000">
            <a:off x="4273920" y="3802680"/>
            <a:ext cx="577800" cy="10494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0" descr="j0349657"/>
          <p:cNvPicPr/>
          <p:nvPr/>
        </p:nvPicPr>
        <p:blipFill>
          <a:blip r:embed="rId2"/>
          <a:stretch/>
        </p:blipFill>
        <p:spPr>
          <a:xfrm rot="3834000">
            <a:off x="5645520" y="3116880"/>
            <a:ext cx="577800" cy="10494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1" descr="j0349657"/>
          <p:cNvPicPr/>
          <p:nvPr/>
        </p:nvPicPr>
        <p:blipFill>
          <a:blip r:embed="rId3"/>
          <a:stretch/>
        </p:blipFill>
        <p:spPr>
          <a:xfrm rot="3834000">
            <a:off x="6941520" y="2355120"/>
            <a:ext cx="577800" cy="10490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2" descr="j0282788"/>
          <p:cNvPicPr/>
          <p:nvPr/>
        </p:nvPicPr>
        <p:blipFill>
          <a:blip r:embed="rId4"/>
          <a:stretch/>
        </p:blipFill>
        <p:spPr>
          <a:xfrm rot="20541000">
            <a:off x="934920" y="2309400"/>
            <a:ext cx="2438640" cy="2328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0"/>
                            </p:stCondLst>
                            <p:childTnLst>
                              <p:par>
                                <p:cTn id="241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92f"/>
                </a:solidFill>
                <a:latin typeface="Franklin Gothic Book"/>
              </a:rPr>
              <a:t>CONTEXT CLUES PRACTICE ACTIVITY</a:t>
            </a:r>
            <a:endParaRPr b="0" lang="en-US" sz="36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52280" y="68544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Your friend Ryan has moved to a new country and is learning a n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language. Read what he wrote in his diary and see if you can figure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the meaning to the underlined wor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2f"/>
                </a:solidFill>
                <a:latin typeface="Arial"/>
              </a:rPr>
              <a:t>Dear Diar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2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192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192f"/>
                </a:solidFill>
                <a:latin typeface="Arial"/>
              </a:rPr>
              <a:t>I overslept this morning. I had to eat my bowl of </a:t>
            </a:r>
            <a:r>
              <a:rPr b="1" lang="en-US" sz="1800" spc="-1" strike="noStrike" u="sng">
                <a:solidFill>
                  <a:srgbClr val="00192f"/>
                </a:solidFill>
                <a:uFillTx/>
                <a:latin typeface="Arial"/>
              </a:rPr>
              <a:t>poof-poo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2f"/>
                </a:solidFill>
                <a:latin typeface="Arial"/>
              </a:rPr>
              <a:t>very quickly, and I almost missed the </a:t>
            </a:r>
            <a:r>
              <a:rPr b="1" lang="en-US" sz="1800" spc="-1" strike="noStrike" u="sng">
                <a:solidFill>
                  <a:srgbClr val="00192f"/>
                </a:solidFill>
                <a:uFillTx/>
                <a:latin typeface="Arial"/>
              </a:rPr>
              <a:t>tramzam</a:t>
            </a:r>
            <a:r>
              <a:rPr b="1" lang="en-US" sz="1800" spc="-1" strike="noStrike">
                <a:solidFill>
                  <a:srgbClr val="00192f"/>
                </a:solidFill>
                <a:latin typeface="Arial"/>
              </a:rPr>
              <a:t>. When I got to schoo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2f"/>
                </a:solidFill>
                <a:latin typeface="Arial"/>
              </a:rPr>
              <a:t>I realized I had forgotten my </a:t>
            </a:r>
            <a:r>
              <a:rPr b="1" lang="en-US" sz="1800" spc="-1" strike="noStrike" u="sng">
                <a:solidFill>
                  <a:srgbClr val="00192f"/>
                </a:solidFill>
                <a:uFillTx/>
                <a:latin typeface="Arial"/>
              </a:rPr>
              <a:t>zilgping</a:t>
            </a:r>
            <a:r>
              <a:rPr b="1" lang="en-US" sz="1800" spc="-1" strike="noStrike">
                <a:solidFill>
                  <a:srgbClr val="00192f"/>
                </a:solidFill>
                <a:latin typeface="Arial"/>
              </a:rPr>
              <a:t> . Luckily, Ms. Jutzi is 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192f"/>
                </a:solidFill>
                <a:uFillTx/>
                <a:latin typeface="Arial"/>
              </a:rPr>
              <a:t>zoosh</a:t>
            </a:r>
            <a:r>
              <a:rPr b="1" lang="en-US" sz="1800" spc="-1" strike="noStrike">
                <a:solidFill>
                  <a:srgbClr val="00192f"/>
                </a:solidFill>
                <a:latin typeface="Arial"/>
              </a:rPr>
              <a:t>, and told me I could bring it tomorr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2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192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192f"/>
                </a:solidFill>
                <a:latin typeface="Arial"/>
              </a:rPr>
              <a:t>After school, some friends and I played </a:t>
            </a:r>
            <a:r>
              <a:rPr b="1" lang="en-US" sz="1800" spc="-1" strike="noStrike" u="sng">
                <a:solidFill>
                  <a:srgbClr val="00192f"/>
                </a:solidFill>
                <a:uFillTx/>
                <a:latin typeface="Arial"/>
              </a:rPr>
              <a:t>plingming</a:t>
            </a:r>
            <a:r>
              <a:rPr b="1" lang="en-US" sz="1800" spc="-1" strike="noStrike">
                <a:solidFill>
                  <a:srgbClr val="00192f"/>
                </a:solidFill>
                <a:latin typeface="Arial"/>
              </a:rPr>
              <a:t>. It’s a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2f"/>
                </a:solidFill>
                <a:latin typeface="Arial"/>
              </a:rPr>
              <a:t>game I am learning. We scored 7 points and they only scored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2f"/>
                </a:solidFill>
                <a:latin typeface="Arial"/>
              </a:rPr>
              <a:t>points, so we were the </a:t>
            </a:r>
            <a:r>
              <a:rPr b="1" lang="en-US" sz="1800" spc="-1" strike="noStrike" u="sng">
                <a:solidFill>
                  <a:srgbClr val="00192f"/>
                </a:solidFill>
                <a:uFillTx/>
                <a:latin typeface="Arial"/>
              </a:rPr>
              <a:t>zoiters</a:t>
            </a:r>
            <a:r>
              <a:rPr b="1" lang="en-US" sz="1800" spc="-1" strike="noStrike">
                <a:solidFill>
                  <a:srgbClr val="00192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2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192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192f"/>
                </a:solidFill>
                <a:latin typeface="Arial"/>
              </a:rPr>
              <a:t>Dad says that next weekend we’re going to the </a:t>
            </a:r>
            <a:r>
              <a:rPr b="1" lang="en-US" sz="1800" spc="-1" strike="noStrike" u="sng">
                <a:solidFill>
                  <a:srgbClr val="00192f"/>
                </a:solidFill>
                <a:uFillTx/>
                <a:latin typeface="Arial"/>
              </a:rPr>
              <a:t>fladder</a:t>
            </a:r>
            <a:r>
              <a:rPr b="1" lang="en-US" sz="1800" spc="-1" strike="noStrike">
                <a:solidFill>
                  <a:srgbClr val="00192f"/>
                </a:solidFill>
                <a:latin typeface="Arial"/>
              </a:rPr>
              <a:t> .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2f"/>
                </a:solidFill>
                <a:latin typeface="Arial"/>
              </a:rPr>
              <a:t>can’t wait! I love to swim and play in the sand. I hope I don’t ge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2f"/>
                </a:solidFill>
                <a:latin typeface="Arial"/>
              </a:rPr>
              <a:t>sunburn thoug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2f"/>
                </a:solidFill>
                <a:latin typeface="Arial"/>
              </a:rPr>
              <a:t>Until tomorro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2f"/>
                </a:solidFill>
                <a:latin typeface="Arial"/>
              </a:rPr>
              <a:t>Ry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192f"/>
                </a:solidFill>
                <a:latin typeface="Franklin Gothic Book"/>
              </a:rPr>
              <a:t>DIRECTIONS</a:t>
            </a:r>
            <a:endParaRPr b="0" lang="en-US" sz="48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192f"/>
                </a:solidFill>
                <a:latin typeface="Arial"/>
              </a:rPr>
              <a:t>It’s time for some detective work.  Take each word from Ryan’s diary that is written in his new language and use the context clues in the text to figure them ou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4" descr="j0282788"/>
          <p:cNvPicPr/>
          <p:nvPr/>
        </p:nvPicPr>
        <p:blipFill>
          <a:blip r:embed="rId1"/>
          <a:stretch/>
        </p:blipFill>
        <p:spPr>
          <a:xfrm rot="20541000">
            <a:off x="4943520" y="3895200"/>
            <a:ext cx="2438280" cy="23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-360"/>
            <a:ext cx="8686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THIN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2f"/>
                </a:solidFill>
                <a:latin typeface="Arial"/>
              </a:rPr>
              <a:t>What could the word </a:t>
            </a:r>
            <a:r>
              <a:rPr b="1" lang="en-US" sz="2400" spc="-1" strike="noStrike" u="sng">
                <a:solidFill>
                  <a:srgbClr val="00192f"/>
                </a:solidFill>
                <a:uFillTx/>
                <a:latin typeface="Arial"/>
              </a:rPr>
              <a:t>poof-poofs</a:t>
            </a:r>
            <a:r>
              <a:rPr b="0" lang="en-US" sz="2400" spc="-1" strike="noStrike">
                <a:solidFill>
                  <a:srgbClr val="00192f"/>
                </a:solidFill>
                <a:latin typeface="Arial"/>
              </a:rPr>
              <a:t>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799"/>
              </a:spcBef>
              <a:buClr>
                <a:srgbClr val="eb8803"/>
              </a:buClr>
              <a:buSzPct val="80000"/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2f"/>
                </a:solidFill>
                <a:latin typeface="Arial"/>
              </a:rPr>
              <a:t>What could the word </a:t>
            </a:r>
            <a:r>
              <a:rPr b="1" lang="en-US" sz="2400" spc="-1" strike="noStrike" u="sng">
                <a:solidFill>
                  <a:srgbClr val="00192f"/>
                </a:solidFill>
                <a:uFillTx/>
                <a:latin typeface="Arial"/>
              </a:rPr>
              <a:t>tramzam</a:t>
            </a:r>
            <a:r>
              <a:rPr b="0" lang="en-US" sz="2400" spc="-1" strike="noStrike">
                <a:solidFill>
                  <a:srgbClr val="00192f"/>
                </a:solidFill>
                <a:latin typeface="Arial"/>
              </a:rPr>
              <a:t>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2f"/>
                </a:solidFill>
                <a:latin typeface="Arial"/>
              </a:rPr>
              <a:t>What could the word </a:t>
            </a:r>
            <a:r>
              <a:rPr b="1" lang="en-US" sz="2400" spc="-1" strike="noStrike" u="sng">
                <a:solidFill>
                  <a:srgbClr val="00192f"/>
                </a:solidFill>
                <a:uFillTx/>
                <a:latin typeface="Arial"/>
              </a:rPr>
              <a:t>zilgping</a:t>
            </a:r>
            <a:r>
              <a:rPr b="0" lang="en-US" sz="2400" spc="-1" strike="noStrike">
                <a:solidFill>
                  <a:srgbClr val="00192f"/>
                </a:solidFill>
                <a:latin typeface="Arial"/>
              </a:rPr>
              <a:t>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2f"/>
                </a:solidFill>
                <a:latin typeface="Arial"/>
              </a:rPr>
              <a:t>What could the word </a:t>
            </a:r>
            <a:r>
              <a:rPr b="1" lang="en-US" sz="2400" spc="-1" strike="noStrike" u="sng">
                <a:solidFill>
                  <a:srgbClr val="00192f"/>
                </a:solidFill>
                <a:uFillTx/>
                <a:latin typeface="Arial"/>
              </a:rPr>
              <a:t>zoosh</a:t>
            </a:r>
            <a:r>
              <a:rPr b="0" lang="en-US" sz="2400" spc="-1" strike="noStrike">
                <a:solidFill>
                  <a:srgbClr val="00192f"/>
                </a:solidFill>
                <a:latin typeface="Arial"/>
              </a:rPr>
              <a:t>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0d17"/>
                </a:solidFill>
                <a:latin typeface="Arial"/>
              </a:rPr>
              <a:t>What could the word </a:t>
            </a:r>
            <a:r>
              <a:rPr b="1" lang="en-US" sz="4400" spc="-1" strike="noStrike" u="sng">
                <a:solidFill>
                  <a:srgbClr val="090d17"/>
                </a:solidFill>
                <a:uFillTx/>
                <a:latin typeface="Arial"/>
              </a:rPr>
              <a:t>plingming</a:t>
            </a:r>
            <a:r>
              <a:rPr b="0" lang="en-US" sz="4400" spc="-1" strike="noStrike">
                <a:solidFill>
                  <a:srgbClr val="090d17"/>
                </a:solidFill>
                <a:latin typeface="Arial"/>
              </a:rPr>
              <a:t> me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0d17"/>
                </a:solidFill>
                <a:latin typeface="Arial"/>
              </a:rPr>
              <a:t>What could the word </a:t>
            </a:r>
            <a:r>
              <a:rPr b="1" lang="en-US" sz="4400" spc="-1" strike="noStrike" u="sng">
                <a:solidFill>
                  <a:srgbClr val="090d17"/>
                </a:solidFill>
                <a:uFillTx/>
                <a:latin typeface="Arial"/>
              </a:rPr>
              <a:t>zoiters</a:t>
            </a:r>
            <a:r>
              <a:rPr b="0" lang="en-US" sz="4400" spc="-1" strike="noStrike">
                <a:solidFill>
                  <a:srgbClr val="090d17"/>
                </a:solidFill>
                <a:latin typeface="Arial"/>
              </a:rPr>
              <a:t> me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80880" y="3049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0d17"/>
                </a:solidFill>
                <a:latin typeface="Arial"/>
              </a:rPr>
              <a:t>What could the word </a:t>
            </a:r>
            <a:r>
              <a:rPr b="1" lang="en-US" sz="4000" spc="-1" strike="noStrike" u="sng">
                <a:solidFill>
                  <a:srgbClr val="090d17"/>
                </a:solidFill>
                <a:uFillTx/>
                <a:latin typeface="Arial"/>
              </a:rPr>
              <a:t>fladder</a:t>
            </a:r>
            <a:r>
              <a:rPr b="0" lang="en-US" sz="4000" spc="-1" strike="noStrike">
                <a:solidFill>
                  <a:srgbClr val="090d17"/>
                </a:solidFill>
                <a:latin typeface="Arial"/>
              </a:rPr>
              <a:t> m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90d17"/>
                </a:solidFill>
                <a:latin typeface="Times New Roman"/>
                <a:ea typeface="Times New Roman"/>
              </a:rPr>
              <a:t>CONTEXT CLUES POSTTES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04560" y="21337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5f7791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6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90d17"/>
                </a:solidFill>
                <a:latin typeface="Arial"/>
              </a:rPr>
              <a:t>http://www.shsu.edu/~txcae/Powerpoints/prepostest/cluesdefinepostest.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6840" y="533160"/>
            <a:ext cx="8077320" cy="59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0d17"/>
                </a:solidFill>
                <a:latin typeface="Arial"/>
              </a:rPr>
              <a:t>Context Clues Pre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90d17"/>
                </a:solidFill>
                <a:latin typeface="Arial"/>
              </a:rPr>
              <a:t>http://www.shsu.edu/~txcae/Powerpoints/prepostest/contextclues1pretest.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Franklin Gothic Book"/>
              </a:rPr>
              <a:t>CONTEXT CLUES – WHAT ARE THEY?</a:t>
            </a: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28240" y="4568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ontext clues are bits of information from the text that, when combined with prior knowledge, allow yo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to decide the meaning of unknown words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in the story or article you are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s a reader you must act similar to a detective and put together clues from sentences surrounding an unknown word in order to make an intelligent “guess” as to what the definition of a word 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98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 CLUES – HOW DO THEY HELP YOU READ NEW WORDS?</a:t>
            </a:r>
            <a:endParaRPr b="0" lang="en-US" sz="36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088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book writers and authors include words or phrases to help  readers understand the meaning of a new or difficult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words or phrases are built into the sentences around the new or difficult wor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becoming more aware of the words around a difficult word, readers can make logical guesses about the meanings of many wor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98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98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500"/>
                            </p:stCondLst>
                            <p:childTnLst>
                              <p:par>
                                <p:cTn id="59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98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TILL WONDERING ABOUT CONTEXT CLUE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CONTEXT CLUES</a:t>
            </a:r>
            <a:endParaRPr b="0" lang="en-US" sz="43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08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rs use many different types of context clues when writing texts.  Three of these types ar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definition context c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onym context c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onym context c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152280" y="228240"/>
            <a:ext cx="8686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definition context clues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 - don’t touch that dictiona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finition of the word you don’t know is rig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in the text!"    EXAMPL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many </a:t>
            </a:r>
            <a:r>
              <a:rPr b="0" lang="en-US" sz="28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theor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de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ut what made the Ice Ages happe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is sentence the word “ideas” tells us that </a:t>
            </a:r>
            <a:r>
              <a:rPr b="0" i="1" lang="en-US" sz="28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theori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different thoughts people have about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a time, </a:t>
            </a:r>
            <a:r>
              <a:rPr b="1" lang="en-US" sz="28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glaciers</a:t>
            </a:r>
            <a:r>
              <a:rPr b="0" lang="en-US" sz="28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lowly moving rivers of 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ed over many parts of the Earth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is sentence the words “slowly moving rivers of i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 us wha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lacier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7" dur="500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" dur="500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" dur="500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" dur="500"/>
                                        <p:tgtEl>
                                          <p:spTgt spid="3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7" dur="500"/>
                                        <p:tgtEl>
                                          <p:spTgt spid="3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22860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ynonym context clu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words around a difficult wo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mean the same or nearly the same as the wor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seeing the picture of the starving children, we felt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pass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pity for their suffering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is sentence the word “pity” tells us tha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pass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ans to have understanding f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dmonish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r students and they knew they were in hot water for their action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is sentence the words “in hot water” tell us tha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dmonish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ans cautioned or scol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3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ntonym context clu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words around a difficult word that mean the opposite or nearly the opposite as the wor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e wa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lucta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take the job of captain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m.  He was afraid that the time it would 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uld hurt his grades.  On the other hand, Billy 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ger for the chance to be the team capt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is sentence the words “on the other hand”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ger” tell us that Billy feels the opposite of Jo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,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luctan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ans uncertain or cautio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0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4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9" dur="10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4" dur="10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9" dur="1000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4" dur="1000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9" dur="1000"/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4" dur="1000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9" dur="1000"/>
                                        <p:tgtEl>
                                          <p:spTgt spid="3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04:53:04Z</dcterms:created>
  <dc:creator>Chris Garner</dc:creator>
  <dc:description/>
  <dc:language>en-US</dc:language>
  <cp:lastModifiedBy>MASONJ</cp:lastModifiedBy>
  <dcterms:modified xsi:type="dcterms:W3CDTF">2012-02-27T18:42:24Z</dcterms:modified>
  <cp:revision>37</cp:revision>
  <dc:subject/>
  <dc:title>Context Clues</dc:title>
</cp:coreProperties>
</file>